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DA6-FCDB-42CB-954E-CFAADA5E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2E3-05C7-4E28-B75F-6A8C315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C61CC-9A78-4981-B7B2-FBA9CA00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3002B-C252-4FAB-B746-092BD782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AFC8B-3641-43AC-895B-005E392A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00BFE-0736-4FF4-998E-0658ACE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D2932-C1E5-4AF2-B705-6E27CDE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54B3C-099E-4A39-86B5-12B5551E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C6A11-9260-4407-8631-AB265CDF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0880C-7B64-4ABD-B2B1-8BCDC93A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5F81F-DAE8-434B-BBFA-A6CD895D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0E9C4-5318-4F79-98F4-64DFEB8D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447-B0A0-4CDE-8E4C-9CEF71A0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5D607-53DF-4B44-B8ED-B9B8D021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1427F-3326-4D3C-AAF0-ECBA4A1F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7B250-3DF2-44B3-94DA-6277CC4F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FEE2C-8229-4617-BB85-FDC3DF6A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69979-A764-4D04-938F-6916886A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9FD09-9D54-4606-A998-F31819CD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1C78F-A00C-4D99-9F84-72ECA699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A37DC-7066-4570-91E0-73D35C03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AE6F7-7838-4AE7-8833-E63F49D8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592F9-5A28-4C6B-A096-3A650ADF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CD3-87EE-4EF2-8100-151DC334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25FBE-6E67-4C14-9078-BE8A17F7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72B56-7C98-426C-883A-03A060DB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CF74C-2FC0-4EE6-A0F4-F6EE2551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32F3C-634A-44AD-98AD-1BA5C8AE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0B08C-7098-4BBC-8DC0-5A80D4B9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98A5D-2A01-4EC2-A042-947EF63C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B8F70-3D92-443D-8461-0C56311F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4BE43-4CEE-425E-B7D9-17F0907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BCDAD-6D09-451F-B2DD-E942D64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322FF-B2AB-4B27-A93D-D68D7D9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B070-183F-4C47-999A-B367BF3B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4E586-E998-467D-B35F-0AD92AA2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F1788-0F75-4E5D-93FD-988C3DA5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F6571-A91A-48FE-9D05-7137D90B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E4A5F-A7BD-4142-9D38-11B07225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79DC8-6BB8-4402-95E6-EE42843A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26B32-CAEB-4755-9910-C4D61F68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B6872-9C1C-4E85-B7A7-1133918B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0A15F-5269-4DD5-AEE8-AEA6ED55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CC68D-0D7D-4888-96C7-F0156FBE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B0B11-7BA4-4195-8B90-1057231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229A-0E0B-4109-90AD-2C7612A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AEF73-C22A-4ADC-A803-CB950100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B2D5C-FE1F-4F05-851E-566E5CD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EFA80-5949-4778-8CFE-E3EC0896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63013-A275-476C-BEFD-D913AF4A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B7DD4-FE66-4D3C-9365-DFCE9AD1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06827-84B3-45BD-BBE4-B3718FE7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77C25-744C-40FE-8268-00881CF1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69FFB-1828-43D7-9D82-C25C9D7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0F608-D836-4A2A-AAF8-D0581E5D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D022C-A8B8-4155-B01E-D5053F94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8A8D-2EED-4902-B60E-E3E8539B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1D6CD-66FE-45E8-9EA6-1372850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9AD10-BB25-41B8-B141-26BF577D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FA8AF-1246-4CE5-927B-8C64E197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275DD-D147-45F5-848C-C154AF6E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16896-FC8A-4B9D-B290-815DE746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819A7-8659-4DAA-B736-9734F9BA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03097-09D7-405C-AB85-9A6EAA30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EE560-728E-4949-920A-0A2856C4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CF078-DD7E-4BBA-843E-B97579EE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4BFF2-63B4-45AE-82FD-ACB7BDCC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2C2-6753-4D97-A9E1-46E266D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2C6B3-80A0-4C57-BBC5-7F2379BB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8245F-690D-418C-958D-230B557F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1A0E4-D29F-4672-B060-F1BF7673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BF461-35D1-4BB6-ABAE-6695CA3D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7B927-1E2E-4489-9BFA-464D34A4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DCE74-6BED-4A5A-9968-59CD3DD1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0662D-FA8E-49EF-8950-AA6DBB08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D0493-9657-4987-AFE1-7EE364CB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08126-8E3D-4AFC-8747-D764C74E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9DA62-06F4-41B7-B5A7-527BCD0E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BC7C-A493-4995-A4C8-C74243F6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B811C-497E-46AA-9696-F219ED66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EDB1B-3F02-40CC-81A5-8AA77ECD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A6FFD-054E-4404-8972-4ED95101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175C7-AE0C-4E06-9886-D3267261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662C3-3197-4891-B015-210057F0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9C506-4566-4123-A5A5-C577C65E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58274-C27F-43AB-8B85-8C9AE948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969AD-6B49-4230-8C7F-5759DF4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E2A7A-7B4B-4F62-AF1E-0CC3A568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D303B-89F0-4A8D-9D99-A1C8C24F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52A2-F4DB-4939-898A-86B3C868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AC28D-FA99-498D-815D-D87866B2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4D69B-D2F7-4DA3-91A9-C6325B53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87BD7-54DB-4C6D-BDC7-1CF1104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384CAD-9AAB-4266-A713-2036352E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0159A-DF84-456D-B88C-F865C66E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5204C9-4007-438D-8695-87341778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EA612-6E1E-4D1A-BBC3-D522381A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9D7C2-6CA4-4504-AAB4-3E85A92A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C0054-E8B2-4DEC-B652-0881450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6D772-AE1F-4FF4-AA62-7A830C66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9CF0-711C-451A-96E6-E0FC413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2F3F3-9413-4402-8EEC-303B76BE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A73AC-F0B7-4AD1-BCBA-2332AC04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116DB-FB9C-4FE4-885D-60796492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4ADD1-0191-4BD0-AE1D-BFC7D5AA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2FCA0-0DA5-4CB0-B360-B02E31EF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3D7D8-6825-4A60-BDC4-9F42458F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353FD-F5C5-46D8-BD9A-CFCF3211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195617-4D46-4048-8C79-589E2975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B3EE7-7B4C-4F8F-BBBD-2A28DACE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38AE1-D01D-466C-A2D4-BB2BFD2E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2F2-CD07-4A26-895A-212155FB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543F-A896-4496-835C-DE2F313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ECC5B-E3B4-4237-8F89-99E68E27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00E80B-A4BB-41DD-A393-325A586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3E533-EC68-4EA6-8357-CC777F47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87F1D-FB99-4E32-B368-A25CA8B7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8A3C0-B3D6-47EE-87A7-1F1F98F6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9807A-08F5-4E63-9D5E-7501A857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CA1E2-C2F1-4331-A781-4D1E51F3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C8BEC-5AC2-4496-9FA5-EB72B375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32621-D7D8-4228-971E-3929D16E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51B172-399D-4F31-923B-226A11E0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F777-99AE-41E8-978A-9303F8CB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F362D6-C5A4-4C93-9EEE-BD34A6B0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47D69-D648-446B-9AFE-321CEBE3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BF8D8-D67C-44DE-8E22-96AD1E0E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AAF4F-0C1D-435C-B437-A770B68A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A3FFC-D4B6-4758-9BC0-8BA9CA19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77D018-806D-4E78-9030-D011985F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E7F1A4-818A-455F-B514-21593D0E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914C5-E713-43A9-AC51-80CEC73D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922450-3C48-43F6-80EE-C30A922D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64C65-0F3B-4CE9-A9E9-DB099F3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D2DD-5CC4-454E-BFD4-452DE469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D8480-63BB-4422-AD05-5C3F751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1B40A-EA7A-4981-AAFD-72F5E7AB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253EA3-5B11-462A-BEE3-996521F0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DB9660-06F6-44CC-8F75-839E64EE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72B33-5AEE-453F-BA9C-C9ABAAB7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E8454-38B2-4BE4-863D-E5BE2790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02F33-20BB-46B9-BBA2-32D8C894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ED377-48B0-43A9-9BD2-A0CC8924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296C4-2CBF-4AF6-BF45-030F8F9E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F3791-A5FE-469E-BFF6-B694C6A7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0BF2-423C-4179-9CB9-7445A3BD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96FC4-107E-4DDB-A14D-3A71C727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860EF7-7E17-4FAA-ACD7-9EF16224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AFD18-1F42-429C-ADA8-404CD14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2FAD3-B935-40EC-A472-CA70460C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891C3-C683-4A74-8642-C17B3AAA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68AEB-EFA5-495D-9201-7A3DC5C4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E4169-76B0-4221-9A21-99A6D9CD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4AA65-2E52-434F-BAFB-EA161D7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79DF5-E3BE-4AE8-BB54-8C151157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27E6C-7A33-44C8-AF2B-C632B950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4C50-B803-4824-89CB-DF95B675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8342C-2FD4-4262-BDC1-9AE91FF9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1EFD11-DD58-4B7C-9206-B744737F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EF441-BD68-45D2-A431-B90698E4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5C389-FACD-449C-BCDC-3C4A247B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1935F-C050-4FBC-AE29-1EB0F8AF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A8FDE2-168D-4C07-8E89-BBC51056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D0423-7322-4FC0-98E1-21261E69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0886E-C2A1-4DB8-A9E5-9314017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84F4AC-BD23-47F0-8AA0-F59E1687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07DADF-1C31-47E1-8BE7-16BB087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FD96-1EF7-42CB-9A47-DE7D0D29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9675DE-7201-4FA5-8B98-6DC30AB1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DC28B-53A8-48FB-9F60-963A047B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ACD983-D70E-42C5-92AE-C7DD6015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164B-9774-4272-B8B1-772AE671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7303-766C-4AB7-A5D4-20D6CD7D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B6557-373D-4C6F-A698-5DFD00C5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FDE2-7456-4EA3-8BEE-83DB1943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E85-4A58-48E0-A4F3-4F094ACA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02F1-0606-40CA-91A9-F86E94BD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4AB7-ECA6-45F1-9ABC-8CDBBBEF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7C0C-88C5-45A6-B8EE-4F49D624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129F-C225-4B54-BD8D-46CA8D28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9E58-D738-4F85-916D-D86D2A14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F2CD-F53C-4C8F-93AC-765C1204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9F75-6A32-4FD8-A76E-8CEA7CB9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5BFFA-A195-43C8-915C-6F8366D1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36AC-4065-401F-8AEB-0D321A84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BA47-516A-442A-BCAC-DE6C11D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A7D-0C68-4E0C-8EC6-0505568C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6E27-8FE6-4BAA-81D0-C81BC913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B43D-011C-41C9-A5D2-A6A520CF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D4D3-7744-4E6A-AE35-9210D988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279F8-C3FC-4873-90C3-F8713C12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41AD-F4BB-46AC-8A06-42B3464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1B6C-F066-4774-9FE2-619090E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C8746-63B8-4AD1-93BD-D7BD25FA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4B1D-11CA-41A8-9260-BABBDE7B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48C7F-7FD3-4E9B-885A-D9B4DC03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15F6C-19A3-44BF-A308-BD5AFECB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BB2-DB1A-406B-ABA8-50F3B5C1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6E351-081D-4241-8D39-86841230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CB3AA-41ED-4CF2-851C-4B6423A3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53E2-C82E-43F1-B39C-59568489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8A3F3-AD10-4B22-9BC8-5EBB892A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84B9-CB71-4D4A-AEBD-8A95E405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92E13-A629-4C0F-A0BD-1BA7156A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DE0B6-0CFF-4785-9BB4-CFC21B7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EF67F-5B79-4F51-A6BE-62071920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62D72-009F-49A0-AE8D-45A14724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A9138-B796-4228-B598-286EDDB0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9F5-F039-4EB4-9049-E8E2FC73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5D895-7C54-4E13-91DD-29B35E83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29FF2-9085-4ACB-B142-40A3A241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4BA3-A5A0-4629-BAB5-BA123CC9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6C325-16D2-421B-9B42-33F92367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1DFAE-C212-49F1-A818-FAA614C5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23C0D-AEDB-44A8-93A2-0E258450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3447-0678-4FB2-B0A1-99A5C7F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1889D-2ACF-41FF-9317-6825AE2E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78282-C48B-43BB-A5BF-78507DD2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4AACA-E9FD-4F3D-9703-FA3437A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09F-CF73-4E82-B739-D819B17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2F06B-DCD9-4636-A973-CDA46C99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49F29-1B89-4953-A564-C0ECAC44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FE21-44EC-4E8B-BA96-79040EE2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BC9B-2926-4AF2-ADFD-59436CE4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6A5EF-22B9-41FD-AC5A-A8383731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8B919-C4C9-4A93-A5B1-2A538675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18F9-EAAE-4C74-9B43-32B32507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5DE96-22B2-4699-B965-B9AAB98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6271D-8FC3-4EB4-8310-E1819EF6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8A38C-AEFF-48EA-9D70-3DB27EA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558-2087-4A1F-9D06-BBF30722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41F04-E6E6-4F9F-9489-4DA52597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AFA9B-3087-4C38-ADD1-1B7A4F6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E2B0C-04B0-4794-A6D6-2EDB78FE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554FB-7133-4DC3-83F0-3FF9D4D6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23B62-20F9-4605-B6F6-2562F755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E1A1E-83FB-4D91-A825-BBC505AA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82558-D90F-46A0-A6D3-B3483E7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0C764-9672-4039-972F-BD5666BC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19F74-3DA8-4C55-BEB7-7F95381F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467DF-180D-4835-8D5F-5E60AFCA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E5A-079C-4B15-AB5E-5231ECF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591CD-8AEF-40B7-AE98-183296D2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9C61D-3972-46C4-95FF-A7E09639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FACCF-AEE1-4BFD-AC55-ED09E74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278F3-E6DC-4FD9-8BA2-C6C2CC0D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7DDF-B1AD-4836-B690-00E751AE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CCFD3-0F9B-4CB8-8B0B-79A82E1F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CDC0E-DE3D-4FDA-AFE0-5D5014AC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29FB7-EB51-4CF7-B5FB-39ECE81B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08012-DB2E-46F8-BD3C-ABB2DEFF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92183-E825-44B8-843D-D242DD24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B723-94EA-4BC0-B9D3-0663111DE5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DA86-CEAA-4536-8AA8-68C447C56A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04E8-6145-4F17-9D2E-2407724B32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3D8-0EAB-4D21-A031-6F56A5817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7BE5-8228-44D7-87A5-1772CA49DA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AF45-769B-4C24-9B72-10FE7859A2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C57B-EEA2-49E1-A150-D8BBEB9113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9EF0-B898-4001-8C3A-A3B4616923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AF9D-C616-48D0-BA22-9ABE1C397E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EA3C-7CDA-4563-9BB1-57F4AB59F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CA2B-FD87-49FB-A814-74CB3D4420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FADA-8F0E-40D4-B0A2-C54CC10823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361B-4655-4ADD-A129-8B13F8B166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605B-6501-420D-94F6-D379A2D65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1AF4-032E-4315-9321-EFA7A7C0A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F260-CDC0-4DFE-AABD-A391C2D2D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4017-F8C0-4195-B629-B02574DD7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C214-294A-4683-94C0-1299C10264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2A8F-44B5-491B-8399-FF6218B583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1A31-F3F7-426D-912A-5E0C4F6BD2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737A-6792-4FB9-84D0-2B741592F4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64DD-BD96-4CBC-9DE9-86DBAA6BB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E7A-24D3-481C-8C4A-779693B86B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A3B7-7AF9-4B00-A24F-484E9846A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E2B0-2996-4E99-B476-CA093EB746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3AA4-B4F3-4B31-9E47-044E8B8B8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4D85-5A48-4238-A098-A4C219A82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1B8-47CF-472E-BF93-EFFD0DD4A2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2BC1-A99F-4360-9C60-A54E4BDD3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B2E7-F11B-4C55-9111-E91B5AD80C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43ED-2052-4AA4-A3A6-9359D5EA3D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DF20-D18E-48E2-9045-48693837E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470C-2E2A-403A-87B7-16C91D61B8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3F6A-1C29-47ED-98F8-72BBC4AF9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9330-5C19-4B84-89A6-4696BC71F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3F4F-86F3-49C3-9AC8-5CC7C0D35A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4B9F-2EF1-4FDA-AF26-20415DF44F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00DC-7C5B-41C5-AD36-21A35D947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0499-7371-41F5-9F9E-D8083D91E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189-E8CF-4045-81C1-3FAAF82269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43040" y="2909880"/>
            <a:ext cx="58579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1290600"/>
            <a:ext cx="8601120" cy="4276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419640" y="387504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419640" y="508464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227640" y="508464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557280" y="1386000"/>
            <a:ext cx="8029440" cy="4086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598840" y="304020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47680" y="838080"/>
            <a:ext cx="8648640" cy="5686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826920" y="473868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900000" y="531648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900000" y="5905440"/>
            <a:ext cx="640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81160" y="749160"/>
            <a:ext cx="8581680" cy="5848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41767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042920" y="378936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042920" y="436572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826920" y="494028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826920" y="5516640"/>
            <a:ext cx="417672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900000" y="6064200"/>
            <a:ext cx="547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52360" y="928800"/>
            <a:ext cx="8639280" cy="5000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403280" y="5229360"/>
            <a:ext cx="5832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595440" y="1204920"/>
            <a:ext cx="7953120" cy="4448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7272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77756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777564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55640" y="4005360"/>
            <a:ext cx="777564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971640" y="4681440"/>
            <a:ext cx="7775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176040" y="276120"/>
            <a:ext cx="8791920" cy="63057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482436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482436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482436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395280" y="3875040"/>
            <a:ext cx="482436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539640" y="465300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395280" y="531504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8"/>
          <a:stretch/>
        </p:blipFill>
        <p:spPr>
          <a:xfrm>
            <a:off x="611280" y="6021360"/>
            <a:ext cx="619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1" descr=""/>
          <p:cNvPicPr/>
          <p:nvPr/>
        </p:nvPicPr>
        <p:blipFill>
          <a:blip r:embed="rId1"/>
          <a:stretch/>
        </p:blipFill>
        <p:spPr>
          <a:xfrm>
            <a:off x="981000" y="1052640"/>
            <a:ext cx="7182000" cy="220968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52232" descr=""/>
          <p:cNvPicPr/>
          <p:nvPr/>
        </p:nvPicPr>
        <p:blipFill>
          <a:blip r:embed="rId2"/>
          <a:stretch/>
        </p:blipFill>
        <p:spPr>
          <a:xfrm>
            <a:off x="361800" y="3259080"/>
            <a:ext cx="8420400" cy="2257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197240" y="13413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020000" y="131112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370400" y="2349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567560" y="2305080"/>
            <a:ext cx="82080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1851120" y="3645000"/>
            <a:ext cx="8208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5003640" y="3716280"/>
            <a:ext cx="82080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8129520" y="3645000"/>
            <a:ext cx="82080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1908000" y="4408560"/>
            <a:ext cx="820800" cy="749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4643280" y="4581360"/>
            <a:ext cx="820800" cy="493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7956720" y="4581360"/>
            <a:ext cx="820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38:4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